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4EF6-5B34-4CE8-AE38-37E3BAB7F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BB77-54DE-4584-B9A5-F02DA427B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2FF4AB-D73A-4461-AC40-D0A80716B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CAC542-4F9A-4950-99D4-768C95DB5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1D0F02-88FB-48B4-A211-97037EA3A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D6E329-27FB-4180-8E50-647E4BEB9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6DE013-D022-42BF-9A59-04DC5EF32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ADD39B-4754-4B78-A68D-D4328C3AC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47A236-B51E-4DA2-B2A7-254C08F2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DFD20-47DA-47F8-8635-A9B43FC75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625EB9-B2EC-4DCD-B200-56AE25CB5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8D048-65B2-454E-84F5-49AAAB62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EFA4-45A2-429E-84DF-074236189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7F745B-78BF-4F91-97C8-637498D45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FDB0D5-47EC-49D6-BB78-970B7915E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6F2BD6-AC16-4011-AFB0-0992F359F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92CACE-A934-4AA7-A16E-B3DF1DBE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B9BCB-E45A-41CC-BBA6-F44EFFDB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9B9BFD-0462-4FDB-A05B-B99451042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9C2F34-5BD4-49E3-B144-C6717439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F0499E-1F38-4A4B-A773-D83564BD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AD9EC4-5AE9-41EC-90D5-72ABA8336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3548E-1C05-4EE2-9CCB-C80D95580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2ECF5-3B2D-46ED-AF6E-60757C2A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0E650A-3D98-4454-8C76-3C8C4CDABF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0C6F58-E6AA-4DFF-806F-00DD8AF1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D3131F-3B21-4324-8408-0E1DB2DDD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482C26-63FD-419A-B479-046B7051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A52100-A078-4813-8E58-C1317BCA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11ABDC-2C6E-4AD5-8CF4-41059AC12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B845AB-CF63-4BDF-B016-B17EB779F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F600E9-1491-48D2-81A8-1E19B7B8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042F8C-F06F-49CC-B832-BBC1983D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8FD99B-D652-43CE-90A6-849674690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B5A76-DD2F-46E4-8122-994218FB4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13CB61-728E-4B54-8C36-CB6A1B253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2DF02C-3B9E-4F20-BDB6-716871C71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D5493BB-B26A-47D4-8077-461BB300C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17FD9A-ED19-4013-9E20-6DB47B7987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10717B-6C9B-4896-A5F7-D00985CD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5B67D8-ECA7-429A-B725-10B82A6B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975E27-0FCD-418B-90E2-EB914E45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4E4F3E-314D-4BAE-96B8-B60662C5C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33B9C-DC5F-4660-A5C8-531326B3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BBE777-3698-4771-A355-8E1ACC6EC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33AAD-744B-434C-848B-900D92E95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D69859-C6E6-4F21-BB2D-49B4167D2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6B3779-129E-4D31-9A05-0F1435F3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AF618-1A57-431B-A7F2-268B041C1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42E3E0-40CC-4E19-A55E-7399FF5CA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3F550-4699-4DAA-91CF-33386D356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91BF06-8ADF-4E63-8C16-97C82E35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9C90DB-CBB6-4202-8E61-F91559580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CD37F5-AB1A-49AB-8D98-39946CA12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F842F8-ACC0-4FDB-A3C7-F7746C80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F752E3-DF23-4DA4-8289-10CEB4725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E091D-3FC7-42D3-8AF3-4BA4CF49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1FC325-B630-4B76-8660-02A3FE52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F425C3-128A-4C0C-9DC0-5E53402ED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A38B5F-1846-4D9C-B8DD-E6AC61FC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B928AE-0493-4018-8848-904E1789C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1BF44F-9F03-4D85-B53F-CFDBABD8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A91316-5983-44A7-9B18-B654F5E9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C57709-CF5D-4DE1-BAC1-D4AB2AC93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1B46CC1-86EB-41EF-BCF9-EB20BF601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6ADC0-6513-44DA-BDB7-A309310CD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9FFE1B-72CA-4BDB-AF92-CDE9588AE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F59CA-F379-455D-9281-F43B29EE8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7D05E5B-D25D-43DB-9321-6059DF188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85B287-EFBD-4ED5-8C9F-FBCD7F797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1E4BCB-DB58-4AED-A8DA-FB8B0DE1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A659DB-785C-49E1-9CBC-40D889EC1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293313D-92B3-4948-AEC1-CAEFC70FC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0E658D-BF53-4B19-8F02-7F34FC0F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4D8750-C5A2-423D-B467-331BEC25C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2E44F6A-FB3F-4730-83AA-EEBD6B59D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AB15742-C60E-45EC-8BD7-8C390C42B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333EDB-D580-4DD7-BE64-31F5F484B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1F102-F5A1-41FB-8A88-B0B8D945B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A17C5A-C8A1-4623-A9C4-ECE9304A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6495517-3A7D-42FA-955E-F6058B3AE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AC1D3C-550A-4EA4-948C-DD763FB08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085D23-3ECE-418D-B68E-8C4E08ED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846D74-3994-4ECC-AE43-B42CA66C1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7F14A6-1E54-4E1E-ABAA-37E2B8627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9509F3-AC4D-4700-B5B1-3B9B7DD1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93C85E-FA27-48AC-84AE-8E2EEA200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4679A9-2B8E-4E2E-852B-91C6EF331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C60F62-1C0A-4C39-91E8-10BBDC30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2680-1661-44DA-9879-9176565C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47D2E6-1308-4143-A836-54430D795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957F297-4FC1-4190-B04B-7452A0D00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E477978-D572-495F-AEA0-FB63A4309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672374-740F-443A-8ADD-672C154D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0F531C-749E-4564-97DB-8C6A7242A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3F9267-1958-4D87-BA31-B4AF2143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2F86CB5-3952-4D3F-AB86-EC96D9579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A76846-36EC-47A3-A429-12F2E018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02039A3-2034-4CCE-B4F5-CC858C3F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715D1B5-0DC5-44F6-B3BB-CF4CA2E87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D761-E129-4E21-ABE1-26CDB5FB6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617ED7-FAE6-47E3-BC7F-CA3A6F17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42009A-AB18-46C5-82F0-F46AFFE63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06A3A3-24C7-466F-9F8A-B65017523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12F37C-02E8-4BB1-B8F6-1758F08EB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F84520-DC99-4EB7-8AD3-19F97233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5A4DD85-8394-4CC0-A8EF-BD1B0E74A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6202AD-9E0D-4498-8856-396F4626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2C201E-3294-4120-B1DF-44EFC613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F67A71-749F-43B4-A339-607088ACA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42D300-77D7-4D2E-8225-A9C5051EB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3197-3018-4F2C-89A2-79B5A6D9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6813D-59A9-4549-A829-36E49C722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D92131-F75F-4D3B-8CAC-2C02C927A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7B42EC-6128-45AC-A67D-6671D514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205E91C-735F-4B1F-80A2-4E1E8903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161E03-5889-44BA-A5F4-E489A9AEB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2CAED9-158B-4E10-896F-4B37C3FD0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328DFA-D4E0-46A1-84C0-00533965A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95F1F16-69D1-485F-920A-E04288287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50B85AA-EF7A-415E-B56E-FDAEC0A8B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1D77D7-F2C1-424D-B62E-98151E35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54C7D35-39C6-409A-BA61-9FFA34AE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6A485-B53E-4592-8FE2-70016F6F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4C829B2-1908-4DBD-A03D-635B37696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1A86D4-81AC-4F7F-9CC9-76CF5FAAE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D43CAE8-0E4E-4EF0-B85D-572DF4468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41A440-B18E-4774-8CE1-092282B5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6E935B7-B42B-4D92-92B1-8F9425E9C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B2CCA4-D4E8-499E-AF85-47DEBEA6C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61DF66-3DD1-4DFC-BC46-7F0873001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2890FD7-93DF-4B35-AC02-634FC5406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34BBFEF-836A-4DC8-B598-5C610D52A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3151A25-8533-4689-89DA-7003D05E4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C6B63-5B29-463D-A850-0BD6F014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6681BA-C970-473D-B4BA-21B266CD6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AD3F12-AE3D-4FB0-905E-A11C5E14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78A0BD-9A2B-42A4-997E-9C5074011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B9DA6F-BABE-44E7-B5AB-53E71D08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0CCD43-20D4-4114-B3FE-83250308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5A3C860-230C-43D4-B010-B5FF9DFF0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4E8393-51C1-4BC4-8453-E0683554D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CDAB9AD-EB14-4041-A1DA-EF2FC60866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D07BB4-E5A5-43EB-B26F-9C5F258DD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C0F01C-3774-4761-9344-AA3540B2D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5DCCE-9E30-46CD-B309-2B6A83A4F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E4D4B5-9EC0-4F9D-A1E2-FD9A79E38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A064E2-2408-4517-A867-93C3AD1CF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1F70D2-A9AE-4E2F-8873-5700F6B19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241F36-8F88-449F-88D3-32CA833E7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9B0DB47-9EEA-4BD1-B306-ACD47186F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E0008C-7DBC-40EB-9C4B-891EE2F4F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EF0C28-C793-417D-B8C5-73723BE3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4AD889-3640-4FA0-84A8-773BBF263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A72549-061D-47FC-BA6D-F065B24E8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24AD0D-9F6B-4637-B086-3AEEE31AE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01159-F27A-4DEB-B5F7-E3C9F051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BD4F18-AECA-45BF-8C9A-6AE5AF7B8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8F9390-A2CD-489A-BFC9-83D3D5CE9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07A9B2-750A-4EB7-B99E-CBDAA588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461584-230F-4765-9903-1CE7045DD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32DCAD-2C41-4E10-BACF-2D39740CE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1B116F-6963-4C2E-9A9C-F07E34522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8DBD7A-3902-4B3C-B24B-77860E9F9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C1DCA8-0EE1-4C19-AC22-C276AB5A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ED14CD-B609-41C9-9817-DE7397488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55E65BC-BEEC-4B91-9FA5-87DA2294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E11A84-42EF-4D20-AA70-A0717BCF4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35D6F77-2E8C-4770-B066-2ABEFC4AF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0695C6-8943-4608-A624-49A748C0F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45B47B0-1F6F-44CD-A21B-5B512EEDA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FA575-01A1-4F61-A97E-CEBE6C31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4D18A0-4162-45CC-8B05-60F7E669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DD766F-F6DF-4148-A774-258E36911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67CFB2-6DE7-45DC-9514-A45FF9AB4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A904-A5B7-47B3-A81A-57D9C63FA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A9CF38-36F1-43EA-BD4F-5780D6607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2CB464-F222-4A47-8AED-FF96692D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F19AA7-4A5C-42D9-BC73-04785EB13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131ED-D968-4416-92F3-AF60B0E6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EAC7AD-5F44-4563-8593-E5BE44FE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FC5D0B-BB0A-432F-825E-E91E903C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83868A-4391-48AF-9B00-C0BF40AEE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64B0C8-6CEE-4082-BDEE-30BA6323A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574822-D5C3-4F15-BABC-8A2C00BCC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F50B29-7DF5-4757-A33C-D05B01A3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B1018-609C-48BD-BA94-13695E13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4513EA-9C83-4AEA-AEFF-F0A49CB14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899D59-AD59-4EC9-A9F0-B8F2E6B5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93B783-17CF-4704-9260-7720054F5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EA651-3DE8-4F3E-AC2D-38AE1E9F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30B5C-95D2-4650-A751-06A01B0F2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93BAA4-37CB-4BED-88E5-4361A9343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DA3DD7-24CE-4EBA-8ABF-E51D1F32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D8B6C2-86B1-49A2-84CF-7AA2FF21A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20F858-A56B-4E4E-9F83-28325B87DB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6A328-3D33-4966-B64F-A8A99E43E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0602-E71C-4CAE-B2E5-8A0E19C219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7BC908-7446-49A6-A74D-7D1862FCE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55A174-6D32-4530-B171-04BB80AC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26BDB-7A05-4630-AE3C-B1F0067BA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FF8E6E-731D-41ED-9DEF-9E359F9E8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6C1816-AF76-4317-8823-987035701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EFB57F-EA95-4D58-AE44-F78659AFF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D7FF2-3892-486A-9F01-6E333146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387871-57A4-43DA-9B4D-DC641DE4A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C5AACA-BCE0-4D32-9A09-6C38D3445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2AC3A8-0662-4804-AB65-B4C0591B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162C-A2E5-430B-BA30-A29DBBEFF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EEA21E-2A66-466F-B708-49B9D0369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950DC4-B7C2-4B3D-ADFE-B825DC151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A4C505-E2D0-478E-8F59-47EBD049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FC88B0-7DFF-4B34-B4CA-B32058352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783F26-7C93-4868-9F17-8455EDC33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7311D-F405-4DA0-A430-0F55C8225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2535A6-3D60-4620-9D7D-DA8EDDFDD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46447B-4815-4C93-9CB2-3706AE11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0FD2B-A3B2-4111-9BC8-35E52E684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EC57DC-6BD2-4B09-A100-4A3CC6B93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7B65-7E5B-4761-B9DC-BD82436CB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0C83F5-7431-44BA-9997-F3CE8AFB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332A98-E3AA-46D6-AA71-466BD870E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BAF86-21DB-4B0D-B891-DF8D710C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2C3472-10B7-4D54-A9C2-75969133A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84D484-C51D-4D76-AA53-29201C58E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C1F9AE-082D-4EA2-9C2D-98F998A1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62223E-784B-4C22-AA37-1CB6672DF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F144DE-ED99-4F4C-A06C-458EFDEA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2100D2-A6F4-4606-AE24-B4D7E2E2A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BA2847-D678-45BA-892C-41FC0CEFC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8856-8F6D-441B-A7B1-7223C6A5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5C7513-2FE5-4EA6-8963-9C13CF4CF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66DE7-628E-445B-A5AE-BBE8AD6E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D46E7-2515-4312-AE66-8455B3ED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2A7A4C-12A1-4D19-BC4D-42BBEEC94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25F9DB-7FCA-461F-B59C-66481AF2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E21EA6-E078-45A5-9EE2-3347E86F9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2110C0-ED30-49D1-85D4-BDB6D4ECE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F7FE5E-AF25-43E3-901B-CE4219292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C1EDD-443E-41B5-B442-EA497D80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2ABE7-C348-4D43-8D10-71F2B5CBD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0A7C9-3A46-47C7-8F3D-80B384C4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5E96DD-F5C9-45A4-999C-FF03F1BA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D822C2-4135-4C24-A12A-153AED96D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E0AFC-01FB-4FFA-90A6-C0E0B2B4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54C674-3627-4979-8CC7-56F5C8B7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C19FD3-299D-45AA-8562-962CB1A3E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99C36A-10C2-42D4-8959-792240DCA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61F466-9EB7-4EF6-8E66-499F10919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95ADD0-7700-442F-A9A1-3A7F06284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A622BB-D4D1-4210-8C06-E2D21A77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0ED679-A5C2-487A-8D90-E22B06647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100D-7993-4407-B0E9-2E42B52A45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9942-788E-49BE-892A-D9387B528AA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775C9-7536-4008-9058-A00B91AD66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54677-2423-4F90-8667-A09F66B088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55054-FB0A-4CF8-B61B-1E22FCDA69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1BEC-7E4A-4FAE-8EA1-67391BCD34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3A7E0-355F-4AC9-88A1-916B22F921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8B42-4E88-407C-8467-E4E9F1E382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4DFE1-C458-4AF3-BA53-F1B403D27E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CDCA3-697B-4B69-9E2E-82F3DEB34A8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46CE1-065F-403E-90B9-CE2405A5D20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47BC7-CD68-492D-B554-261479A0A4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2D2D-768F-45BD-B713-3070FA7FDD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FCA99-9D46-4E5B-A24F-F65D996703D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379E-780C-4FDE-914C-C9CE6FFA73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8D1F1-84D3-4D17-B687-2069AF659F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F136-B184-46B2-A52B-2CEE55EE6BA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756FB-1BB0-44BD-BFC0-592D100CD9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493A9-CAB1-477D-9A09-7F39E0627D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082B6-D593-4352-84C7-E4333D69FB6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AF470-858B-49E6-A695-3A17EFBFB44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517AC-BF7E-407F-88B6-41D137C06C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BF50C-AC40-43DD-8389-EA30CC2F31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F0F34-9E6B-4404-AD0A-B6BBA51F35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0EC71-E143-4F76-82EF-86C6E9559A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A070E-3B40-4256-904B-AA1BA503A8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7A4F3-20BF-4586-87B4-0D80244F9E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9D9F7-3F21-4704-8834-A77B2EF60F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DCA69-0377-4CF9-A974-CE1D280AFB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04BDA-9291-4ED8-9804-ADB852174F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639AE-2623-4439-8D6D-92C38279AD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496AA-BA89-4091-A4EB-9DE72EB04F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A33F9-BD0F-4452-B968-CB82AB09FDA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BE6FA-097B-46CF-9DF4-148407B67F9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9C46-C0A8-470E-8724-AB24CF7F91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2E57B-56A8-41B6-B997-3591D42377D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1622-31DE-439A-9998-EF6FEC7481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A25E1-F85A-40B3-979C-9ADE3753D34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4BA3-79C8-4B8D-8308-FFDFF5AAFC6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51CDF-0028-4CF1-B459-6DBBA453F3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0" y="3081240"/>
            <a:ext cx="914400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96200" cy="572472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928800" y="235728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928800" y="3857760"/>
            <a:ext cx="42840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2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77120" cy="4695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3" descr=""/>
          <p:cNvPicPr/>
          <p:nvPr/>
        </p:nvPicPr>
        <p:blipFill>
          <a:blip r:embed="rId2"/>
          <a:stretch/>
        </p:blipFill>
        <p:spPr>
          <a:xfrm>
            <a:off x="500040" y="5372280"/>
            <a:ext cx="6543720" cy="1485720"/>
          </a:xfrm>
          <a:prstGeom prst="rect">
            <a:avLst/>
          </a:prstGeom>
          <a:ln w="0">
            <a:noFill/>
          </a:ln>
        </p:spPr>
      </p:pic>
      <p:sp>
        <p:nvSpPr>
          <p:cNvPr id="1028" name="矩形 3"/>
          <p:cNvSpPr/>
          <p:nvPr/>
        </p:nvSpPr>
        <p:spPr>
          <a:xfrm>
            <a:off x="928800" y="85716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4"/>
          <p:cNvSpPr/>
          <p:nvPr/>
        </p:nvSpPr>
        <p:spPr>
          <a:xfrm>
            <a:off x="928800" y="235728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5"/>
          <p:cNvSpPr/>
          <p:nvPr/>
        </p:nvSpPr>
        <p:spPr>
          <a:xfrm>
            <a:off x="857160" y="378612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267400" cy="5572080"/>
          </a:xfrm>
          <a:prstGeom prst="rect">
            <a:avLst/>
          </a:prstGeom>
          <a:ln w="0">
            <a:noFill/>
          </a:ln>
        </p:spPr>
      </p:pic>
      <p:sp>
        <p:nvSpPr>
          <p:cNvPr id="1032" name="矩形 2"/>
          <p:cNvSpPr/>
          <p:nvPr/>
        </p:nvSpPr>
        <p:spPr>
          <a:xfrm>
            <a:off x="2786040" y="1357200"/>
            <a:ext cx="714240" cy="357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"/>
          <p:cNvSpPr/>
          <p:nvPr/>
        </p:nvSpPr>
        <p:spPr>
          <a:xfrm>
            <a:off x="1000080" y="2928960"/>
            <a:ext cx="135720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5"/>
          <p:cNvSpPr/>
          <p:nvPr/>
        </p:nvSpPr>
        <p:spPr>
          <a:xfrm>
            <a:off x="5072040" y="3429000"/>
            <a:ext cx="1357200" cy="365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6"/>
          <p:cNvSpPr/>
          <p:nvPr/>
        </p:nvSpPr>
        <p:spPr>
          <a:xfrm>
            <a:off x="2668680" y="4464000"/>
            <a:ext cx="1357200" cy="3589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7"/>
          <p:cNvSpPr/>
          <p:nvPr/>
        </p:nvSpPr>
        <p:spPr>
          <a:xfrm>
            <a:off x="2643120" y="5486400"/>
            <a:ext cx="1928880" cy="339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438120" y="1495440"/>
            <a:ext cx="8267760" cy="3867120"/>
          </a:xfrm>
          <a:prstGeom prst="rect">
            <a:avLst/>
          </a:prstGeom>
          <a:ln w="0">
            <a:noFill/>
          </a:ln>
        </p:spPr>
      </p:pic>
      <p:sp>
        <p:nvSpPr>
          <p:cNvPr id="1038" name="矩形 2"/>
          <p:cNvSpPr/>
          <p:nvPr/>
        </p:nvSpPr>
        <p:spPr>
          <a:xfrm>
            <a:off x="4114800" y="3389400"/>
            <a:ext cx="1143000" cy="339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矩形 3"/>
          <p:cNvSpPr/>
          <p:nvPr/>
        </p:nvSpPr>
        <p:spPr>
          <a:xfrm>
            <a:off x="2500200" y="4929120"/>
            <a:ext cx="13575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Picture 2" descr=""/>
          <p:cNvPicPr/>
          <p:nvPr/>
        </p:nvPicPr>
        <p:blipFill>
          <a:blip r:embed="rId1"/>
          <a:stretch/>
        </p:blipFill>
        <p:spPr>
          <a:xfrm>
            <a:off x="476280" y="1924200"/>
            <a:ext cx="8191440" cy="3009600"/>
          </a:xfrm>
          <a:prstGeom prst="rect">
            <a:avLst/>
          </a:prstGeom>
          <a:ln w="0">
            <a:noFill/>
          </a:ln>
        </p:spPr>
      </p:pic>
      <p:sp>
        <p:nvSpPr>
          <p:cNvPr id="1041" name="矩形 2"/>
          <p:cNvSpPr/>
          <p:nvPr/>
        </p:nvSpPr>
        <p:spPr>
          <a:xfrm>
            <a:off x="4714920" y="1928880"/>
            <a:ext cx="1428840" cy="379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3"/>
          <p:cNvSpPr/>
          <p:nvPr/>
        </p:nvSpPr>
        <p:spPr>
          <a:xfrm>
            <a:off x="6643800" y="2928960"/>
            <a:ext cx="1428480" cy="379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4"/>
          <p:cNvSpPr/>
          <p:nvPr/>
        </p:nvSpPr>
        <p:spPr>
          <a:xfrm>
            <a:off x="4692600" y="3917880"/>
            <a:ext cx="1714680" cy="447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2" descr=""/>
          <p:cNvPicPr/>
          <p:nvPr/>
        </p:nvPicPr>
        <p:blipFill>
          <a:blip r:embed="rId1"/>
          <a:stretch/>
        </p:blipFill>
        <p:spPr>
          <a:xfrm>
            <a:off x="423720" y="785880"/>
            <a:ext cx="8296560" cy="5286240"/>
          </a:xfrm>
          <a:prstGeom prst="rect">
            <a:avLst/>
          </a:prstGeom>
          <a:ln w="0">
            <a:noFill/>
          </a:ln>
        </p:spPr>
      </p:pic>
      <p:sp>
        <p:nvSpPr>
          <p:cNvPr id="1045" name="矩形 2"/>
          <p:cNvSpPr/>
          <p:nvPr/>
        </p:nvSpPr>
        <p:spPr>
          <a:xfrm>
            <a:off x="5572080" y="2500200"/>
            <a:ext cx="857160" cy="392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3"/>
          <p:cNvSpPr/>
          <p:nvPr/>
        </p:nvSpPr>
        <p:spPr>
          <a:xfrm>
            <a:off x="7240680" y="3000240"/>
            <a:ext cx="857160" cy="4176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4"/>
          <p:cNvSpPr/>
          <p:nvPr/>
        </p:nvSpPr>
        <p:spPr>
          <a:xfrm>
            <a:off x="3286080" y="4000680"/>
            <a:ext cx="857160" cy="392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5"/>
          <p:cNvSpPr/>
          <p:nvPr/>
        </p:nvSpPr>
        <p:spPr>
          <a:xfrm>
            <a:off x="1500120" y="4500720"/>
            <a:ext cx="857160" cy="392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6"/>
          <p:cNvSpPr/>
          <p:nvPr/>
        </p:nvSpPr>
        <p:spPr>
          <a:xfrm>
            <a:off x="4275000" y="5068800"/>
            <a:ext cx="857520" cy="392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7"/>
          <p:cNvSpPr/>
          <p:nvPr/>
        </p:nvSpPr>
        <p:spPr>
          <a:xfrm>
            <a:off x="3571920" y="5572080"/>
            <a:ext cx="1000080" cy="4064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447840" y="2119320"/>
            <a:ext cx="8248320" cy="2619360"/>
          </a:xfrm>
          <a:prstGeom prst="rect">
            <a:avLst/>
          </a:prstGeom>
          <a:ln w="0">
            <a:noFill/>
          </a:ln>
        </p:spPr>
      </p:pic>
      <p:sp>
        <p:nvSpPr>
          <p:cNvPr id="1052" name="矩形 2"/>
          <p:cNvSpPr/>
          <p:nvPr/>
        </p:nvSpPr>
        <p:spPr>
          <a:xfrm>
            <a:off x="1214280" y="2117880"/>
            <a:ext cx="1285920" cy="396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3"/>
          <p:cNvSpPr/>
          <p:nvPr/>
        </p:nvSpPr>
        <p:spPr>
          <a:xfrm>
            <a:off x="1214280" y="3143160"/>
            <a:ext cx="428760" cy="392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4"/>
          <p:cNvSpPr/>
          <p:nvPr/>
        </p:nvSpPr>
        <p:spPr>
          <a:xfrm>
            <a:off x="7858080" y="3143160"/>
            <a:ext cx="428760" cy="3920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矩形 5"/>
          <p:cNvSpPr/>
          <p:nvPr/>
        </p:nvSpPr>
        <p:spPr>
          <a:xfrm>
            <a:off x="2428920" y="3643200"/>
            <a:ext cx="428760" cy="392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1:50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